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D39-F987-4425-B4A4-965254D1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BB2-0AE6-4DF5-B358-17303EAF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A1E-0953-452F-8499-C15F092A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F38-5F59-4631-982D-168DA271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C7A-8A9A-403E-B4E7-EBD5BA8C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D02-A35F-4668-A2DE-D9B7318C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1CF-82B7-44D5-8A74-492DDC1D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833-0593-4FBA-A68B-59DFDBC6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621-0917-4A5C-A3C0-F4D4FE8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E5B-BAF7-46AE-BF69-9191F56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A1E-030E-44F6-8CBB-38D4B195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8E0-4276-4BF2-A5DD-B3ECD7C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84C-A63A-4997-8ACE-EE98DDFE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CHURCH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361800"/>
            <a:ext cx="61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 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وقفتْ أقدامُ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أبوابِكِ يا أورشليمُ،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يكِ صَعِد شعبُ الل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َسَبَ دعو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يَحمد اسم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H_123" descr=""/>
          <p:cNvPicPr/>
          <p:nvPr/>
        </p:nvPicPr>
        <p:blipFill>
          <a:blip r:embed="rId1"/>
          <a:stretch/>
        </p:blipFill>
        <p:spPr>
          <a:xfrm>
            <a:off x="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54480" y="501480"/>
            <a:ext cx="530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ناكَ نُصِبَ عرشٌ للحك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رشُ الربِ بين شعبِه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نسألِ السلامَ للمؤمن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َسعدِ الذينَ يُحبُّونَ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ND_38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4400" y="425520"/>
            <a:ext cx="5199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 إخوتي وأخِلاَّئ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دعو بالسلامِ والبَرَكة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خيرَ فلنباركِ اللهَ كلُّن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11:16Z</dcterms:created>
  <dc:creator>USER</dc:creator>
  <dc:description/>
  <dc:language>en-US</dc:language>
  <cp:lastModifiedBy>USER</cp:lastModifiedBy>
  <dcterms:modified xsi:type="dcterms:W3CDTF">2003-01-18T09:21:47Z</dcterms:modified>
  <cp:revision>2</cp:revision>
  <dc:subject/>
  <dc:title>PowerPoint Presentation</dc:title>
</cp:coreProperties>
</file>